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FB44-AE1D-442B-A70E-070D295A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7BE-862B-41CD-890B-E05D7C4F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305-2367-4D95-9699-5713A119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BCA7-02A7-48A5-956B-2546F36D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1AC1-27DD-4E90-B178-23D8C032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A3D0-BEB2-45FA-83AE-1125D3F4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050E-4B9D-4E94-8F07-E86C3DE0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5BAB-6A83-41C7-863B-F03C34F1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30C8-EEBD-4551-804A-280A3B2E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1E55-0EE6-4ECD-B954-F6DD91BC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0768-4BBD-458D-83F4-751AD70A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3CA-CA1D-45F0-BDE6-DA242FED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F3BC-21C8-4220-9A9C-14994E7A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39A2-1AEB-4E62-9007-3905D745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0CB1-7106-4000-B456-0472233D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58ED-EE9C-453E-82FE-9B02C9CE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2D5F-AB7F-4F60-AA48-4E5A51EF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F0E44-3723-436B-81E9-1DBE84C9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CB02B-8DD8-474E-BE71-BF332D00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089BD-B0B2-4DB8-9915-66C1D960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71B7A-0D5C-49FC-94E7-F601FA48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FCBFB-E8DB-444B-85B4-DC2A9D31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D25-B216-4267-8EB3-7593C130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3B4C1-70DD-4E31-A98A-330F53CF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48906-63E4-44AF-A9BA-66D1BECB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21CC3-9A66-434B-A404-2414D37A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C3D72-5D6B-4A69-9E5C-FAB2C648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5852F-AA8E-403C-9780-97AA7D9D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9E83-D55F-4FCD-8DA0-534C02F6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6DA0D-AA7E-4475-ABD1-9B5298EB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23562-3321-4823-8403-AD35A7C1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0F9D8-EDB2-4793-AEA2-358CEA61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33379-29F3-4622-A366-CFE5FD2E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CEE-7DF9-4864-9B07-6B39CFA6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9714E-88BD-410F-955E-E6E5F4AD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57F60-D5FC-496D-9370-0E7D7C04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6D99D-37D6-4296-835F-085BF7CB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3F684-0D07-42D6-B020-521853EB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3B14C-7D57-4346-B98B-A102C3D3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FCF85-DB51-4862-90C6-2ED5BDFA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CC8B3-848C-4090-9A81-FAF057F3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4D884-F67D-479D-BA61-9C5F877D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ED451-876E-4148-AE4E-7449E2A0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1D7-3B12-4E93-BDBD-0B1BA083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61D7-9630-4650-9FF5-8CD3D7B8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08A6-E2B9-46DD-8468-50E7E848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BD2-B29E-4B97-8946-13A56983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8F1B-D52F-4507-9FA9-08CB3A82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C0B9-C588-41FF-8CFF-34B7CCD6C963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2933-AEB2-4954-BBCE-A4B73DD2A926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5083200"/>
            <a:ext cx="219564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0640" cy="234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E3C6-3926-4B15-9561-F16FD0928F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D4BB-7ACA-4CEF-BD58-7D2DA85060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sompo-japan.co.jp/travel/images/trav03.gif&amp;imgrefurl=http://www.sompo-japan.co.jp/travel/trav005.html&amp;h=171&amp;w=200&amp;sz=6&amp;tbnid=o5zIk1UZvlIJ:&amp;tbnh=84&amp;tbnw=99&amp;hl=zh-CN&amp;start=44&amp;prev=/images%3Fq%3D%25E7%2596%25BE%25E7%2597%2585%26start%3D40%26svnum%3D10%26hl%3Dzh-CN%26lr%3D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131720550&amp;tn=baiduimagedetail&amp;word=&#28508;&#27700;&amp;in=3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gchina.net/ebcps/2/md/1376492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ufa.cn/special/14/2/2515035887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ho.int/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病理生理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380680" y="2708280"/>
            <a:ext cx="43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thophysi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亚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sub-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4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心处于健康与疾病之间的健康低质量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11280" y="2781360"/>
          <a:ext cx="403380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781360"/>
                    <a:ext cx="40338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disease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在一定病因作用下，自稳调节紊乱导致的异常生命活动过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症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ymptom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指疾病所引起的患者主观感觉的异常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ig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各种检查方法在患病机体发现的客观存在的异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病理过程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pathological process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多种疾病中出现的共同的成套的功能、代谢和结构变化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1280" y="515880"/>
            <a:ext cx="71136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疾病与病理过程的区别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2226960"/>
            <a:ext cx="828036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疾病可包含几个病理过程，故病理过程是疾病的组成成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病理过程可以由不同原因引起，而疾病由特定原因引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99072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病因学概论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70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4375080"/>
            <a:ext cx="1952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437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44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700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病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78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5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3640" y="4508640"/>
            <a:ext cx="2442960" cy="457200"/>
          </a:xfrm>
          <a:custGeom>
            <a:avLst/>
            <a:gdLst>
              <a:gd name="textAreaLeft" fmla="*/ 0 w 2442960"/>
              <a:gd name="textAreaRight" fmla="*/ 2443320 w 244296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13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3860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5516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386064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4200" y="32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诱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60" y="9208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3840" y="1989000"/>
            <a:ext cx="35460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疾病发生的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病因 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ease caus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，是指引起某一疾病必不可少的、决定疾病特异性的致病因素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物理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暴力、极端的温度、极端的大气压、噪声、电流、紫外线、电离辐射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92280"/>
            <a:ext cx="3384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化学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强酸、强碱、毒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32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一章   绪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25520" y="263700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troduction to pathophysi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性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病原微生物和寄生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定的入侵门户和定位；病原体和机体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0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鸡瘟病毒对人无致病作用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050920" y="1996920"/>
            <a:ext cx="4105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000" y="1537920"/>
            <a:ext cx="7173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营养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必需物质的缺乏或过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0989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45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、心理和社会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罗马医生盖仑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Gale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其著作中就叙述了关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神卫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问题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743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遗传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染色体畸变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2565360"/>
            <a:ext cx="37512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810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先天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损害正常胎儿发育的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77240" y="3645000"/>
            <a:ext cx="13269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．免疫性因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超敏反应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hypersensitivity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自身免疫性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autoimmune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免疫缺陷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immunodeficiency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发生的条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(conditio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是指在疾病的病因作用于机体的前提下，能够促进或阻碍疾病发生发展的各种因素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6020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3860640"/>
            <a:ext cx="576360" cy="1584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420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8640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条件对疾病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抑制疾病发生发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促进疾病发生发展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3500280"/>
            <a:ext cx="720108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加强某一疾病原因的作用，从而促进疾病发生的因素，称之为诱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precipitating factor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四节 发病学概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736800"/>
            <a:ext cx="741672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病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athogene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研究疾病发生、发展及转归的普遍规律和机制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148428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　病理生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内容及其学科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98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、疾病发生、发展的一般规律及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机体的屏障防御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外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内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白细胞、组织细胞、淋巴结、肝、肺、肾、脾、血脑屏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blood-brain barrier)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胎盘屏障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placenta barrier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致病因素的蔓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组织性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神经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体液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自稳调节的紊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自我调节机制破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原始病因使机体某一部分发生损害后，这种损害又可以作为发病学原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pathogenetic cause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而引起另一些变化，后者又可作为新的发病学原因而引起新的变化。如此，原因和结果交替不已，使疾病过程不断发展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0400" y="609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爆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143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52388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受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20574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3200400" y="2514600"/>
            <a:ext cx="122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505320"/>
            <a:ext cx="38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循环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4114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64832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血压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1814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心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58320" y="68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167652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1       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342900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0176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始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initial caus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144792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362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环节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eading lin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72720" y="2666880"/>
            <a:ext cx="27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发病学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athogenetic caus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果转化的发展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恶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vicious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benign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57240" indent="-490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的损伤和抗损伤反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lnSpc>
                <a:spcPct val="7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损伤和抗损伤反应间并无严格界限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矛盾的两个方面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3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动态变化过程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4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代偿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compensation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和适应反应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adaptive respons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是机体抗损伤反应的重要方面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21520" y="620640"/>
            <a:ext cx="7383960" cy="6082560"/>
            <a:chOff x="821520" y="620640"/>
            <a:chExt cx="7383960" cy="6082560"/>
          </a:xfrm>
        </p:grpSpPr>
        <p:sp>
          <p:nvSpPr>
            <p:cNvPr id="294" name=""/>
            <p:cNvSpPr/>
            <p:nvPr/>
          </p:nvSpPr>
          <p:spPr>
            <a:xfrm rot="6074400">
              <a:off x="7179840" y="3586320"/>
              <a:ext cx="1000080" cy="872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00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821520" y="620640"/>
              <a:ext cx="7102080" cy="6082560"/>
              <a:chOff x="821520" y="620640"/>
              <a:chExt cx="7102080" cy="6082560"/>
            </a:xfrm>
          </p:grpSpPr>
          <p:sp>
            <p:nvSpPr>
              <p:cNvPr id="296" name=""/>
              <p:cNvSpPr/>
              <p:nvPr/>
            </p:nvSpPr>
            <p:spPr>
              <a:xfrm>
                <a:off x="7437960" y="38368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异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21520" y="620640"/>
                <a:ext cx="6822720" cy="6082560"/>
                <a:chOff x="821520" y="620640"/>
                <a:chExt cx="6822720" cy="6082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778760" y="1246320"/>
                  <a:ext cx="5474520" cy="46479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cc66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24360" y="620640"/>
                  <a:ext cx="1264320" cy="590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336400">
                  <a:off x="6224760" y="1333440"/>
                  <a:ext cx="132732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3183200">
                  <a:off x="2196720" y="5554440"/>
                  <a:ext cx="1485720" cy="761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4810400">
                  <a:off x="977040" y="4107600"/>
                  <a:ext cx="997200" cy="9669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8521200">
                  <a:off x="5728680" y="5389200"/>
                  <a:ext cx="1261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9479000">
                  <a:off x="1929240" y="1147680"/>
                  <a:ext cx="103140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834800">
                  <a:off x="888840" y="2464560"/>
                  <a:ext cx="990720" cy="960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59200" y="1627200"/>
                  <a:ext cx="1400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单核吞噬细胞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847120" y="2541600"/>
                  <a:ext cx="94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物理性屏障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16320" y="390996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状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50600" y="512928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免疫反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5720" y="459900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炎症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0600" y="3608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凝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48560" y="2465280"/>
                  <a:ext cx="109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化学解毒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42680" y="6969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射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616800" y="14749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微生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60600" y="55897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0400" y="58183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热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141560" y="43704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畸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83160" y="27702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癌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01040" y="1322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创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21120" y="2625840"/>
                  <a:ext cx="1269360" cy="197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疾病发生的基本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神经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体液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细胞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分子机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研究对象及任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2556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（患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病机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284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1240" y="306864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7040" y="41497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疾病模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nimal mod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07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机能代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9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对象为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5960" y="5373720"/>
            <a:ext cx="42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务为揭示机制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5640" y="6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二、疾病转归的一般规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疾病的转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4703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191628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85264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276640"/>
            <a:ext cx="299880" cy="1066680"/>
          </a:xfrm>
          <a:custGeom>
            <a:avLst/>
            <a:gdLst>
              <a:gd name="textAreaLeft" fmla="*/ 191520 w 299880"/>
              <a:gd name="textAreaRight" fmla="*/ 300240 w 299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恢复健康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001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康复 （痊愈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不完全康复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836640"/>
            <a:ext cx="568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二）死亡（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五节   死 亡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死亡的概念和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机体作为一个整体的功能的永久停止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500280"/>
            <a:ext cx="358920" cy="12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200" y="328464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理性死亡（老死亡，衰老死亡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病理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6572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422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外所引起急性死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要器官不可恢复性损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08360" y="537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慢性消耗性疾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的死亡概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濒死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临床死亡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生物学死亡期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脑死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0010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脑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包括脑干在内的全脑功能丧失的不可逆转的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数学者以脑干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stem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确定为脑死亡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死亡的判断标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5040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持续深昏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呼吸停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无自主运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脑干反射消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大脑电沉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electrocerebral sile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9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及时判断脑死亡的意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969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准确地判断脑死亡利于判断复苏的预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体材料的利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确定终止复苏抢救的界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病理生理学的教学内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1820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疾病概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ntroduction to disease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病理过程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athological process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系统器官病理生理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ystemic pathophysiolog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病理生理学的学科性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综合性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桥梁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践性较强的学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病理生理学的研究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动物实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nimal experimen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子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临床研究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linical observation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不损害病人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健康和疾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867564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健康不仅没有疾病和病痛，而且在躯体上、心理上和社会上处于完好状态。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身心健康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WHO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5373720"/>
            <a:ext cx="4011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5:08:06Z</dcterms:created>
  <dc:creator>aa</dc:creator>
  <dc:description/>
  <dc:language>en-US</dc:language>
  <cp:lastModifiedBy>hzg</cp:lastModifiedBy>
  <dcterms:modified xsi:type="dcterms:W3CDTF">2014-04-22T02:29:22Z</dcterms:modified>
  <cp:revision>210</cp:revision>
  <dc:subject/>
  <dc:title>病理生理学                  (pathophysiology) </dc:title>
</cp:coreProperties>
</file>